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E694-B3CE-4EBB-B149-FC0D07F78AC1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1029-CC62-4DF4-BE7F-1DD1533253EB}" type="slidenum">
              <a:rPr b="0" lang="en-US" sz="12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6973F-7AC9-4227-A628-284C4E103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13EA-54C3-48ED-839B-AA0323271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C311-7AFF-4349-AEF3-DF7EA7B39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BFF7-EBB5-488C-B33F-97C986193C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54727-6825-40A1-9A93-942EFE5AE1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2EDE-E9D8-44D4-958D-432202FCE2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8F8B-1B0C-4075-8761-131D04F671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1416-332C-498D-A70F-E8893F6697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1DC2-EBC8-4816-B267-731E5F11F1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19A6-06C4-4C22-9F1A-7F91F68FBE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8C2C-4005-49EB-8AC3-8D50D628D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62F0-4A7C-4129-82CF-75C91FA16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C571-25FE-43D6-A663-9C5E892AFA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CFD3-12EF-45C3-83EE-D8F16E538B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5BE40-22F8-4E3D-94A9-877A05E21D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EF88-E292-4FDE-9B99-67079BD208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A7BE-60FE-4D64-B998-5E4F093DB2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47D1-D586-4B0F-90E6-4C4333E690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3AE4-D5C3-445E-B485-3B35C7F131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C6D-B904-4467-BF4E-3345248B33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680-0256-4832-AC07-05E9528C5B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67D-09D4-4246-BAB9-290D647F1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4775-D986-4762-B91D-4586D3FE6B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E4A-2FE7-4948-973F-7A520BC55F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BC8-C818-46A4-9E7D-0A86D06036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A05-5333-4764-A2E9-30914A3B7C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76C-CC42-44AC-AD41-A86BBF6B09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3D2C-E1C3-487F-9832-4257200E5E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53A-573E-4B2E-A3A2-A74A22CD80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55D-E459-46D6-AC99-0AB5675EDE6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CE0B7-0A0E-4C8B-ACAA-9759A8932A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CD7C3-03E3-4B5F-A204-B20EE5916A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3DE5A-7A52-44F6-B266-0C179F228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380C-BA20-48F3-9953-0A611B4268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3BD56-1D98-46AA-93F6-6858203AE74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1588A-F9B2-4CB5-9E45-BBA141B329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58052-A5CD-4760-98F3-A2577B9B24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2801-ED6E-4F68-B187-ADB3AEE4DD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4A42F-48C3-484D-92C7-FAD7E6BBD2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F9D0D-3DE1-48E8-936F-172F1338D9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CB60D-FB96-42BF-9382-267DB74B6A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94711-4BC2-476B-92CD-A3F16721337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8AFCD-4487-4C6B-BB3A-B56378E8D2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373CE-DA9C-4804-AFC3-9AB7CB271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5EC8-5942-4F5C-AF0D-7BD0D9B983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BD4ED-47E3-4632-B244-DFC1516494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50E3A-6EF8-4019-A3B0-C57FB891785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77A18-7614-427F-A8BD-7092684C7F8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BE3AF-B234-4C69-80CA-B7AB5029BC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D462C-DA6B-417F-8744-D945499B2A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499EF-890C-4350-BA6C-DC570BE76E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6980E-95A1-4CED-8268-E043A0153E9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A9242-D79E-42B8-B9FB-2EDB4DBB9B8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5B943-1730-4C5B-9988-9DC642E5165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55C93-8FAC-49CA-8BBA-1DB61A140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EB59-B3E2-40B2-A13D-F099FA85280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EEE57-C691-4445-8786-65BC18832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9BDB-7993-4D9F-B4DC-CBBAD92F5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DEC2-1AF1-4451-B008-DDC0E2766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8033-6A13-4D36-9212-48F7278E2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D546-2459-4F18-B41F-6CB823926970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73600" y="624492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3DCD-FB37-480A-BEF7-1BD0B6B4284F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73600" y="624492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0C66-1873-4D51-8EF1-C9A9103105D4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7473600" y="624492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9C9A-0970-46B6-B8E8-56A0C8506740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7473600" y="624492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2C89-BF59-4004-A496-DF1FAEBB6380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Bell Ringer: 9-23</a:t>
            </a: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During what group of people did the first settlements appear?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5FBC-F2D3-45C1-9BD5-D5E76647C6B2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 Bold"/>
                <a:ea typeface="Times New Roman Bold"/>
              </a:rPr>
              <a:t>FEATURES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“</a:t>
            </a:r>
            <a:r>
              <a:rPr b="0" lang="en-US" sz="28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eye for an eye, tooth for a tooth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Revolutionary new legal principal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Earlier Sumerian laws calculated all punishments, no matter what the crime, in monetary fine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Punishments varied according to the social status of offender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Very harsh punishment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Detailed regulation of economic lif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OC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g 9: Cuneifor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Pg 10: Sumerians c-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7F22-2C1D-4040-8BCD-59F2B342D156}" type="slidenum">
              <a:rPr b="0" lang="en-US" sz="1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457200" y="0"/>
            <a:ext cx="826776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FIRST SUMERIAN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0" y="785880"/>
            <a:ext cx="88520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800"/>
                </a:solidFill>
                <a:latin typeface="Times New Roman Bold"/>
                <a:ea typeface="Times New Roman Bold"/>
              </a:rPr>
              <a:t>Arrived around 5000 B.C.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Settled in region and took up farming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Built dams and canals to get water from 2 river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53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Grew barley and dates and raised sheep and goat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603520" y="3540240"/>
            <a:ext cx="5562720" cy="35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Sumerians Cities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40800"/>
                </a:solidFill>
                <a:latin typeface="Times New Roman Bold"/>
                <a:ea typeface="Times New Roman Bold"/>
              </a:rPr>
              <a:t>Each city surrounded by wal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Permanent garrisons of soldiers stationed in towers and at each gat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Wide boulevards crossed city, lined by houses of the wealth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Rest of city made up of  twisting alleys,flat-roofed hu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Homes of farmers, and small craftsme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0384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ZIGGUR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330800" y="1701360"/>
            <a:ext cx="48765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Most dominant structure in each c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ff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Dedicated to patron god of the c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Largest structure in cit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ff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Resembled a gigantic stepped pyrami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Designed to look like mountains because Sumerians believed their gods liked to live on top of mountai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0" y="7621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0" y="4051440"/>
            <a:ext cx="419112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INVENTION OF WRITING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28920" y="1383840"/>
            <a:ext cx="4965480" cy="55371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3500 BC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 </a:t>
            </a:r>
            <a:r>
              <a:rPr b="0" lang="en-US" sz="36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pictograms represent certain objects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Drawn on clay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0" y="1828800"/>
            <a:ext cx="43434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WRITING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Emerging writing system known as </a:t>
            </a: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“cuneiform=Means “wedge-shaped”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Impressed on clay tablets with wood stylu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Very complicat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2000 symbols </a:t>
            </a: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educed to 500 over time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Pro=Scribes 15 yrs of train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90000"/>
              </a:lnSpc>
              <a:spcBef>
                <a:spcPts val="499"/>
              </a:spcBef>
              <a:buClr>
                <a:srgbClr val="ff99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A secret held by only a few specially-trained individual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HAMMURABI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man credited with the first uniform law code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Applied to almost all of Mesopotamia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4189320" y="1752480"/>
            <a:ext cx="495468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 Bold"/>
                <a:ea typeface="Times New Roman Bold"/>
              </a:rPr>
              <a:t>HAMMURABI’S CO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Greatest of his accomplishmen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Carved on a huge stone slab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3" marL="1639800" indent="-228600">
              <a:lnSpc>
                <a:spcPct val="100000"/>
              </a:lnSpc>
              <a:spcBef>
                <a:spcPts val="499"/>
              </a:spcBef>
              <a:buClr>
                <a:srgbClr val="ff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Probably carried off from Babylon after Ebla destroyed the Babylonian Empir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 Bold"/>
                <a:ea typeface="Times New Roman Bold"/>
              </a:rPr>
              <a:t>Contained 282 section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081080" y="1447920"/>
            <a:ext cx="1763640" cy="510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pher Morin</dc:creator>
  <dc:description/>
  <cp:keywords/>
  <dc:language>en-US</dc:language>
  <cp:lastModifiedBy>TylerDaughtry</cp:lastModifiedBy>
  <dcterms:modified xsi:type="dcterms:W3CDTF">2013-09-23T17:07:20Z</dcterms:modified>
  <cp:revision>6</cp:revision>
  <dc:subject/>
  <dc:title>Early Empires of Ancient Mesopotamia</dc:title>
</cp:coreProperties>
</file>